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F15-B213-4C82-B51D-310B6B8E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D7E-0DA6-4EDD-A1EF-45C90493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C93-50F3-435C-81B0-98A2E8FF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224-EAB1-44D4-8D80-AD1AE9EA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36EC-770C-41FB-841C-358369A7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3CB6-24F2-42A4-8C55-524A5EF0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CA37-3EC0-4C20-B98A-E4A40BB2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64DF-010F-450E-98C9-F683CCB1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B47A-B50C-40D6-8DF6-5B332AAC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52DB-D440-41BC-B972-307D5A99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31E1-49E6-4BB9-9621-59172845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445-8B74-4AE7-9A83-3939351A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8C97-A0B5-4625-AA60-30E29B98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4914-A710-4A62-8103-ED433D68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049B-517F-40DB-BFE4-B11ECB90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6D53-2871-499A-B4B2-EED3E823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4192-6CE5-4F51-9986-2741BE56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79C57-7F6C-4996-8304-7EEC9745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42A44-BF7B-4D3B-AB27-4665F4C8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0BEB3-AF14-40D3-B35C-D3B3A11E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0747E-8A03-4F71-84C6-0EE05F50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9CDDE-3DAC-44AA-AE64-9C87074B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35B-5189-48DF-AD68-01B540A6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B7B10-0233-45FC-B26B-DB418057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0CF3C-9188-445F-8F04-971BE2E9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6021A-947D-4A6A-B3F0-8B44DFB8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7639A-93A8-4F42-9E46-155E6349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A440D-2912-400C-B744-4B516AC2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748D8-7058-460C-A186-2945672F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34FB5-D342-4614-B1B9-9FE46696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94F36-91B4-4C34-8C99-D27C7E68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95E77-0149-45AC-AA88-7C195EEF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5D0A8-BD7F-4931-B14B-22D9EBD1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F46-5C13-4F77-9739-321D3CA9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2E016-D2F2-4D47-B070-801DEEFE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3EE27-DD40-480E-A1FB-13876610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1754C-C7D1-47ED-979C-2A21A466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F3BE4-73B5-46E1-AD0E-354A7D0D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67ADE-457F-40F1-898D-9F75483D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1CCDA-453C-4838-97C8-6169F00E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2F4F4-0B1E-49AE-81B3-33811942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12F24-D442-4BD0-B602-20F121DE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D488A-1113-4CB8-A865-3109C2DD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005A-254C-4296-81DC-332DA66D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8FB-E41E-46C8-BDB5-F81E8519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3248-405C-4173-861F-5017E903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210-D658-4B3E-BBA0-A6151C1F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093-3964-45B0-871E-EFBE7E3A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582C-FD4F-41A6-8271-4581E8AA7AA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92AF-69BD-45BC-A836-5C7A4CFF350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F111-1B64-40B0-ADA0-3B1D60501ED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2334-6564-4522-8780-D5D016EFA67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rezentarea%20proiectului%20pentru%20elevi-Teo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Plan_unitate/Plan%20unitate-Teo.doc" TargetMode="External"/><Relationship Id="rId2" Type="http://schemas.openxmlformats.org/officeDocument/2006/relationships/hyperlink" Target="file:///../Aplica&#539;ie_elev/Exemplu%20din%20perspectiva%20elevului/exemplu%20din%20perspectiva%20elevului-Teo.ppt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storietd.wikispaces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u 1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8242200" cy="1865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28840" y="2857320"/>
            <a:ext cx="6400800" cy="12855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 Black"/>
              </a:rPr>
              <a:t>Revolu</a:t>
            </a:r>
            <a:r>
              <a:rPr b="1" lang="ro-RO" sz="3200" spc="-1" strike="noStrike">
                <a:solidFill>
                  <a:srgbClr val="c00000"/>
                </a:solidFill>
                <a:latin typeface="Arial Black"/>
              </a:rPr>
              <a:t>ți</a:t>
            </a:r>
            <a:r>
              <a:rPr b="1" lang="en-US" sz="3200" spc="-1" strike="noStrike">
                <a:solidFill>
                  <a:srgbClr val="c00000"/>
                </a:solidFill>
                <a:latin typeface="Arial Black"/>
              </a:rPr>
              <a:t>ile Epocii Modern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CasetăText 3"/>
          <p:cNvSpPr/>
          <p:nvPr/>
        </p:nvSpPr>
        <p:spPr>
          <a:xfrm>
            <a:off x="66960" y="6000840"/>
            <a:ext cx="20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7030a0"/>
                </a:solidFill>
                <a:latin typeface="Bernard MT Condensed"/>
              </a:rPr>
              <a:t>Disciplina–Ist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7030a0"/>
                </a:solidFill>
                <a:latin typeface="Bernard MT Condensed"/>
              </a:rPr>
              <a:t>Clasa:  aVI 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setăText 4"/>
          <p:cNvSpPr/>
          <p:nvPr/>
        </p:nvSpPr>
        <p:spPr>
          <a:xfrm>
            <a:off x="428760" y="785880"/>
            <a:ext cx="54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coala cu cls.I-VII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vel D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Tritenii de 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asetăText 5"/>
          <p:cNvSpPr/>
          <p:nvPr/>
        </p:nvSpPr>
        <p:spPr>
          <a:xfrm>
            <a:off x="5838480" y="60721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7030a0"/>
                </a:solidFill>
                <a:latin typeface="Bernard MT Condensed"/>
              </a:rPr>
              <a:t>Profesor : Duca Teo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u 1" descr=""/>
          <p:cNvPicPr/>
          <p:nvPr/>
        </p:nvPicPr>
        <p:blipFill>
          <a:blip r:embed="rId1"/>
          <a:stretch/>
        </p:blipFill>
        <p:spPr>
          <a:xfrm>
            <a:off x="249120" y="1627200"/>
            <a:ext cx="86868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Idealul revoluționar</a:t>
            </a:r>
            <a:br>
              <a:rPr sz="5000"/>
            </a:br>
            <a:r>
              <a:rPr b="0" lang="ro-RO" sz="18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rezentarea proiectului pentru elevi-Teo.ppt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Content Placeholder 4" descr="-Declaration_of_Human_Rights"/>
          <p:cNvPicPr/>
          <p:nvPr/>
        </p:nvPicPr>
        <p:blipFill>
          <a:blip r:embed="rId2"/>
          <a:stretch/>
        </p:blipFill>
        <p:spPr>
          <a:xfrm>
            <a:off x="428760" y="2071800"/>
            <a:ext cx="82864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4617b"/>
                </a:solidFill>
                <a:latin typeface="Arial Black"/>
              </a:rPr>
              <a:t>Întrebări cheie: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28556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 Black"/>
                <a:ea typeface="Arial"/>
              </a:rPr>
              <a:t>Întrebare esenţial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um pot fi evitate greșelile trecutului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o-RO" sz="2000" spc="-1" strike="noStrike">
                <a:solidFill>
                  <a:srgbClr val="000000"/>
                </a:solidFill>
                <a:latin typeface="Arial Black"/>
                <a:ea typeface="Arial"/>
              </a:rPr>
              <a:t>Întrebările unitatăţii de învăţa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um se reflectă in istorie idealul revoluționar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Revolutiile burgheze duc la progres sau la regre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 Black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 Black"/>
                <a:ea typeface="Arial"/>
              </a:rPr>
              <a:t>Întrebări de conţinu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are sunt cauzele mișcărilor revoluționare burghez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xistă asemănări și deosebiri între cele 3 mișcări revoluționar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e personalități revoluționare se afirmă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xistă momente memorabile 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Sunt importante mișcarile revoluționar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are sunt urmările mișcărilor revoluționar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51840" indent="-51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CasetăText 3"/>
          <p:cNvSpPr/>
          <p:nvPr/>
        </p:nvSpPr>
        <p:spPr>
          <a:xfrm>
            <a:off x="5248800" y="5929200"/>
            <a:ext cx="37072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e2d700"/>
                </a:solidFill>
                <a:uFillTx/>
                <a:latin typeface="Book Antiqua"/>
                <a:hlinkClick r:id="rId1"/>
              </a:rPr>
              <a:t>Plan unitate de inva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e2d700"/>
                </a:solidFill>
                <a:uFillTx/>
                <a:latin typeface="Book Antiqua"/>
                <a:hlinkClick r:id="rId2"/>
              </a:rPr>
              <a:t>Exemplu din perspectiva elev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Wiki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4288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36440" indent="-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Adresa Wiki: </a:t>
            </a:r>
            <a:r>
              <a:rPr b="0" lang="ro-RO" sz="16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1"/>
              </a:rPr>
              <a:t>http://istorietd.wikispaces.com/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36440" indent="-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f6fc6"/>
                </a:solidFill>
                <a:latin typeface="Arial"/>
                <a:ea typeface="Arial"/>
              </a:rPr>
              <a:t>SARCINA1-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Realizați individual o comparație între monarhia absolută și monarhia constituțională folosindu-vă de diagrama Venn. Completați apoi această diagramă în grup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36440" indent="-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f6fc6"/>
                </a:solidFill>
                <a:latin typeface="Arial"/>
                <a:ea typeface="Arial"/>
              </a:rPr>
              <a:t>SARCINA 2 -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Găsiți asemănări și deosebiri între revoluția engleză și americană folosindu-vă de diagrama Venn. Completați apoi această diagramă în grup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36440" indent="-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f6fc6"/>
                </a:solidFill>
                <a:latin typeface="Arial"/>
                <a:ea typeface="Arial"/>
              </a:rPr>
              <a:t>SARCINA 3 -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t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și selection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inform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i si imagini semnificative despre cele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3 revoluții burghe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pentru a le organiza intr-o prezentare Power Point(10 slide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36440" indent="-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f6fc6"/>
                </a:solidFill>
                <a:latin typeface="Arial"/>
                <a:ea typeface="Arial"/>
              </a:rPr>
              <a:t>SARCINA 4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- Realizaţi o publicaţie (buletin informativ, ziar, broşură, afiş) pentru prezentarea momentelor-cheie ale revolutiei franceze.Pentru aceasta puteţi folosi şabloan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36440" indent="-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- Realizați o publicaţie (afiş, broşură, pliant) pentru promovarea sloganului revoluției franceze –„Libertate, egalitate,fraternitate”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36440" indent="-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f6fc6"/>
                </a:solidFill>
                <a:latin typeface="Arial"/>
                <a:ea typeface="Arial"/>
              </a:rPr>
              <a:t>SARCINA 5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- Realizați o prezentare PPT despre revoluțiile burgheze ale sec. XVII-XVIII, Pornind de la întrebarea esențială-Cum pot fi evitate greșelile trecutului?-. Prezentarea trebuie să conțină minim 10 slide,pagina-titlu, imagini sugestive, cuprins, concluzii, bibliografie(web si scrisă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36440" indent="-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f6fc6"/>
                </a:solidFill>
                <a:latin typeface="Arial"/>
                <a:ea typeface="Arial"/>
              </a:rPr>
              <a:t>SARCINA 6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- Evaluare sumativă, joi, 3.06.2010</a:t>
            </a:r>
            <a:br>
              <a:rPr sz="1600"/>
            </a:b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- Revizuiţi şi completaţi, acolo unde este cazul, toate materialele grupei sau cele personale.</a:t>
            </a:r>
            <a:br>
              <a:rPr sz="1600"/>
            </a:b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- Nota finală va fi calculată ca medie între notele de la testul final (25%), prezentarea orală (25%), munca în echipă (25%), portofoliu (25%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36440" indent="-136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CasetăText 3"/>
          <p:cNvSpPr/>
          <p:nvPr/>
        </p:nvSpPr>
        <p:spPr>
          <a:xfrm>
            <a:off x="5072040" y="62150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Evaluare initi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Graficul de timp pentru evalu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Evaluare inițial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KWL; Listă verificare abilități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Evaluare formativ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Diagrame Ven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Fișe de activitat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Fișe de autoevaluar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Jurnal de reflecți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Evaluare sumativ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Portofoliu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Test sumativ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Fișe de verificare PP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Fișe de autoevaluare; Listă verificare portofoliu elev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Resur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  <a:ea typeface="Arial"/>
              </a:rPr>
              <a:t>PROGRAME ŞCOLARE PENTRU gimnaziu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  <a:ea typeface="Arial"/>
              </a:rPr>
              <a:t> – Aria curriculară Istorie  CLASA A VI-A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  <a:ea typeface="Arial"/>
              </a:rPr>
              <a:t>MINISTERUL EDUCAŢIEI, CERCETĂRII ŞI TINERETULUI, CONSILIUL NAŢIONAL PENTRU CURRICULU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Bibliografi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Manuale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Liviu Burlec, Liviu Lazăr, Bogdan Teodorescu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storie, manual pentru clasa a VI-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, Editura All,199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ANDREI Pippidi, Monica Dvorski, Ioan Grosu,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storie, manual pentru clas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a VI-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, Editura Corint, 200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Lucrări tipărite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Helie Jerome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Mic atlas istoric al Timpurilor moderne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, Polirom,200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Almas, Dumitru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derea Bastilie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, Bucuresti, 1959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Berstein Serge, Milza Pierre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storia Europe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, vol. 3, Iasi, Institutul European, 199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iachir Nicolae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storie universal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modern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a, vol II, Bucuresti, Ed. Oscar Print, 199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ntel®Teach Program, Essentials Course, Intel®Teach – Predarea în societatea cunoaşterii, Manual Participant Teacher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Internet: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Site-uri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e-scoala.ro/informatica/index.html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ro.wikipedia.org/wiki/Portal:Educaţie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didactic.r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referat</a:t>
            </a:r>
            <a:r>
              <a:rPr b="0" lang="ro-RO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/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785960"/>
            <a:ext cx="8229600" cy="61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ro-RO" sz="45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642680" y="2786040"/>
            <a:ext cx="54291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0000"/>
                </a:solidFill>
                <a:latin typeface="Constantia"/>
              </a:rPr>
              <a:t>Vă mulțumesc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4:46:44Z</dcterms:created>
  <dc:creator>Teo</dc:creator>
  <dc:description/>
  <dc:language>en-US</dc:language>
  <cp:lastModifiedBy>Alexandra</cp:lastModifiedBy>
  <dcterms:modified xsi:type="dcterms:W3CDTF">2010-06-16T10:29:35Z</dcterms:modified>
  <cp:revision>19</cp:revision>
  <dc:subject/>
  <dc:title>Intel Teach turda</dc:title>
</cp:coreProperties>
</file>